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9033-3879-472F-8AC0-A03663078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5951-D6B5-4BF1-835D-2EDC647D2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5C8A-C1F5-4CE7-BD2C-6FC26F9E3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B8FC-437F-4FC6-B1B4-B3E2DAE6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2ED9-DBC9-4929-8B18-15CD75836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7720-BE08-4321-940E-B1B33BEED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8CFA-587A-41F8-A4D9-A48C16E7A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1AC4-1230-41E8-9C63-364640A53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199D-EAE1-4810-8D65-CC972D9F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C710-F9AC-451E-B87D-C8BD2A168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170D-497F-49C2-A851-E37AF3B4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7349-CEC8-4C60-AFFB-42C672C00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36D8-D1B7-4730-9C2C-A29CE1212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C8C3-3048-49E2-8EA6-1369CD91E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7796-7462-44A7-9BBA-2512247A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C66E-3E70-4983-9637-792DA831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45FD-1912-4149-BCCC-A27985BDF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EB49-A94B-4EAA-9674-132678E8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CE9F-A74A-4B76-A4D4-8EE5D0A0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B29A-396B-4F5B-A917-8A7701440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06D7-A235-47F1-ADB3-3E2DA3998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D2FD-BBF0-48B0-A1F0-A46B27EA5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11A0-9BB9-4DDE-88A5-638C06D58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18E4-5331-4F91-A04D-C43F28DBD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0324-F04B-4395-9D42-3665EC695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FCC2-3B20-4477-969A-D6C5628C1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B145-5371-4763-AFEA-63B5DE01B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400A-3418-415A-B67D-80E71249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EB7-631F-4031-AB1E-15261058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2F85-CC7C-46FF-8ACE-A02D1DABE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610-6D4B-4EED-9C0B-4DB60F70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942-D98B-495F-8AC6-21764649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5A0-4C14-4EDC-9260-19863ABC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755-8D8E-4290-A03B-65DC30EB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7A5A-B6CD-47EB-829C-3C1EC76F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6933-A057-4BF7-A9BE-E0FE0923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00F0-B39F-47DC-96C5-876C174A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94AF-E58A-41F6-BF0F-5FB7DEE0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237B-444E-4FB9-9580-B84682BA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3FFC-C210-4013-9C03-F9BD76E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F652-B14E-4C71-ABEB-3BBE434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C2D-AFBF-4CFE-AFFF-697F2BFE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1FB7-A06C-443F-9357-8564726B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B202-52EF-4EE3-92F7-EFA69359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A318-F31F-4DC4-BDC1-EAEB8C93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8544-77D9-4047-B09B-D41CC524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5ACF-6AFC-4829-8406-F5F8DDB1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021-41B9-4E68-BC85-EBCC45A9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2C5-CCF2-4DF0-8B61-89440487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634-8BAF-4E4D-95CC-878CF2E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84A-EB62-4CE1-93A1-C94F2558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41A-2972-4737-BEFC-134B7E7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283-C431-4B72-A562-9F57A1A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B01-97E5-445E-8A51-40FD0EB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ECFD-E1C5-4917-B748-71DFEFB2C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46E8-B445-42E4-B270-B94182297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heelessonline.com/ortho/1258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33560" y="2971800"/>
            <a:ext cx="5105160" cy="2209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Orthopedic Emergencies</a:t>
            </a:r>
            <a:endParaRPr b="0" i="1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22440" y="5410080"/>
            <a:ext cx="24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Steinha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RMC 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1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429000" cy="16002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artment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yndrome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360" y="2209680"/>
            <a:ext cx="5638680" cy="41148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bial Fra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ranges 1.5 to 29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dx/tx thresh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compartment 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acondylar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nu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rea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~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19720" y="990720"/>
            <a:ext cx="4495680" cy="17524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ompartment Syndrome - Pressure Threshold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3428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e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Intracompartmental pres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as low as 30 mm H2O can result in compartment syndrome when accompanied by periods of hypote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24280" y="609480"/>
            <a:ext cx="41148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s it Compartment Syndrome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8120" y="2361960"/>
            <a:ext cx="5943600" cy="3809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– 6 P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of proportion - passive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NARCOTIC REQU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esth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les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kilothermia - C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damage occur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ischemia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1911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nitor Extremity Puls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2209320"/>
            <a:ext cx="5790960" cy="43434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occlude the other major artery (e.g. posterior tib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y vs. dorsalis pedis) so that retrograde flow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erfere with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apply a pulse oximetry monitor to the great toe, and sequentially occlude the posterior tibial and dorsalis pedis pul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pulses to the opposite, non-injured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2971800" cy="17528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Measuring Compartment Pressure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33560" y="190476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performed by Orthoped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ithin Emergency scope of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CRMC, Stryker instrument is in Med Room - Sterile kit w/needle and syringe must be obtained by Nurse Super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84611-88013-88153-1668394tn"/>
          <p:cNvPicPr/>
          <p:nvPr/>
        </p:nvPicPr>
        <p:blipFill>
          <a:blip r:embed="rId1"/>
          <a:stretch/>
        </p:blipFill>
        <p:spPr>
          <a:xfrm>
            <a:off x="6324480" y="4521240"/>
            <a:ext cx="2057400" cy="1346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Picture 7" descr="P49F1"/>
          <p:cNvPicPr/>
          <p:nvPr/>
        </p:nvPicPr>
        <p:blipFill>
          <a:blip r:embed="rId2"/>
          <a:stretch/>
        </p:blipFill>
        <p:spPr>
          <a:xfrm>
            <a:off x="4191120" y="4495680"/>
            <a:ext cx="138744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7800" y="457200"/>
            <a:ext cx="36576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scribing Radiograp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9880" y="21337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, oblique, spiral, segmental, comminut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atric: Salter-Harris, torus/buckle, greensti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ning, angulation,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dislo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00240" y="151920"/>
            <a:ext cx="3809880" cy="685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cture Descrip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5562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0" y="457200"/>
            <a:ext cx="3733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n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85840" y="167616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examine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kin not intact, determine whether bone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igate thoroughly - will require OR 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antibiotics (Ancef or Ancef+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Ortho as soon as dis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3249720" cy="219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www.unboundedmedicine.com/images/Type%20I-00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03680" cy="2057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7280" y="152280"/>
            <a:ext cx="281952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diatric Fractu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422960" y="1828800"/>
            <a:ext cx="4447800" cy="11912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ures involving or near th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physeal plate require urg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pedic con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http://www.gruntdoc.com/pics/drad2ans.jpg"/>
          <p:cNvPicPr/>
          <p:nvPr/>
        </p:nvPicPr>
        <p:blipFill>
          <a:blip r:embed="rId1"/>
          <a:stretch/>
        </p:blipFill>
        <p:spPr>
          <a:xfrm>
            <a:off x="5257800" y="3200400"/>
            <a:ext cx="2498760" cy="327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7800" y="380880"/>
            <a:ext cx="35812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Salter-Harris Classification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6400800" cy="426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thecentralline.org/wp-content/uploads/2009/09/SalterHarris.jpg"/>
          <p:cNvPicPr/>
          <p:nvPr/>
        </p:nvPicPr>
        <p:blipFill>
          <a:blip r:embed="rId2"/>
          <a:stretch/>
        </p:blipFill>
        <p:spPr>
          <a:xfrm>
            <a:off x="3276720" y="2286000"/>
            <a:ext cx="5594400" cy="419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60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H&amp;P for orthopedic emer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ppropriate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x-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potential limb/function threaten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some high-risk &amp; some common inju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management including emergent/urgent orthopedic con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26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int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separation of 2 articulating bony surfaces, often caused by a sudden impact to the 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581280" y="35812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ly dislocated joints include shoulder, finger, patella and elb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581280" y="495288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Dislocations are often associated with frac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23920" y="152280"/>
            <a:ext cx="3962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oulder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 majority are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xillary nerve fxn pre- and post-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ation over delt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 associated with seizure activity, can be bilateral, often 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" descr="C:\Documents and Settings\HCMARTINEZ\My Documents\My Pictures\Shoulder_ant_DL_AP_XR.jpg"/>
          <p:cNvPicPr/>
          <p:nvPr/>
        </p:nvPicPr>
        <p:blipFill>
          <a:blip r:embed="rId1"/>
          <a:stretch/>
        </p:blipFill>
        <p:spPr>
          <a:xfrm>
            <a:off x="2971800" y="4038480"/>
            <a:ext cx="2895480" cy="232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3" descr="http://lifeinthefastlane.com/wp-content/uploads/2009/06/posterior_shoulder_dislocation_003.jpg"/>
          <p:cNvPicPr/>
          <p:nvPr/>
        </p:nvPicPr>
        <p:blipFill>
          <a:blip r:embed="rId2"/>
          <a:stretch/>
        </p:blipFill>
        <p:spPr>
          <a:xfrm>
            <a:off x="6172200" y="4038480"/>
            <a:ext cx="2603520" cy="236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9"/>
          <p:cNvSpPr/>
          <p:nvPr/>
        </p:nvSpPr>
        <p:spPr>
          <a:xfrm>
            <a:off x="396252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08660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ri-lunate &amp; Lunate Disloc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perilunate"/>
          <p:cNvPicPr/>
          <p:nvPr/>
        </p:nvPicPr>
        <p:blipFill>
          <a:blip r:embed="rId1"/>
          <a:stretch/>
        </p:blipFill>
        <p:spPr>
          <a:xfrm>
            <a:off x="2438280" y="1981080"/>
            <a:ext cx="3200400" cy="206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5" name="Picture 7" descr="lunatesidebyside"/>
          <p:cNvPicPr/>
          <p:nvPr/>
        </p:nvPicPr>
        <p:blipFill>
          <a:blip r:embed="rId2"/>
          <a:stretch/>
        </p:blipFill>
        <p:spPr>
          <a:xfrm>
            <a:off x="5791320" y="1981080"/>
            <a:ext cx="3225600" cy="2076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6" name="Rectangle 8"/>
          <p:cNvSpPr/>
          <p:nvPr/>
        </p:nvSpPr>
        <p:spPr>
          <a:xfrm>
            <a:off x="3355560" y="40384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-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4008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362320" y="4876920"/>
            <a:ext cx="6553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with significant wrist instabilit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ssociated with SCAPHOID fractu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 surgical interven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pho-lunate Disso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24080" y="47242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ligamentous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Scapholunate ap stress"/>
          <p:cNvPicPr/>
          <p:nvPr/>
        </p:nvPicPr>
        <p:blipFill>
          <a:blip r:embed="rId1"/>
          <a:stretch/>
        </p:blipFill>
        <p:spPr>
          <a:xfrm>
            <a:off x="6172200" y="1752480"/>
            <a:ext cx="188424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aphicFrame>
        <p:nvGraphicFramePr>
          <p:cNvPr id="153" name="Object 6"/>
          <p:cNvGraphicFramePr/>
          <p:nvPr/>
        </p:nvGraphicFramePr>
        <p:xfrm>
          <a:off x="5791320" y="2895480"/>
          <a:ext cx="167616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895480"/>
                    <a:ext cx="16761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42670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00400" y="32767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y Thomas Sig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normally 1-2 m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14440" y="151920"/>
            <a:ext cx="4876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caphoid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14440" y="914400"/>
            <a:ext cx="4876920" cy="31240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ifficult to see on x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addition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delayed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iddle or proximal, risk osteonec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ortho while patient in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splint &amp; r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rm, thumb s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www.joint-pain-expert.net/images/tenderness_Scaphoid_fracture.jpg"/>
          <p:cNvPicPr/>
          <p:nvPr/>
        </p:nvPicPr>
        <p:blipFill>
          <a:blip r:embed="rId1"/>
          <a:stretch/>
        </p:blipFill>
        <p:spPr>
          <a:xfrm>
            <a:off x="3809880" y="4191120"/>
            <a:ext cx="162720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0" name="Picture 4" descr="http://radiology.casereports.net/index.php/rcr/article/viewFile/13/155/519"/>
          <p:cNvPicPr/>
          <p:nvPr/>
        </p:nvPicPr>
        <p:blipFill>
          <a:blip r:embed="rId2"/>
          <a:stretch/>
        </p:blipFill>
        <p:spPr>
          <a:xfrm>
            <a:off x="6095880" y="4191120"/>
            <a:ext cx="2354400" cy="236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23920" y="304560"/>
            <a:ext cx="38862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ip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reduction imperative: prolonged disloc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scular nec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http://www.ispub.com/ispub/ijos/volume_10_number_1_6/recurrent_traumatic_dislocation_of_the_hip_in_a_child/hip-fig2.jpg"/>
          <p:cNvPicPr/>
          <p:nvPr/>
        </p:nvPicPr>
        <p:blipFill>
          <a:blip r:embed="rId1"/>
          <a:stretch/>
        </p:blipFill>
        <p:spPr>
          <a:xfrm>
            <a:off x="2895480" y="3352680"/>
            <a:ext cx="3030480" cy="2667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4" name="Picture 11" descr="http://gait.aidi.udel.edu/educate/clcsimge/sickle5.jpg"/>
          <p:cNvPicPr/>
          <p:nvPr/>
        </p:nvPicPr>
        <p:blipFill>
          <a:blip r:embed="rId2"/>
          <a:stretch/>
        </p:blipFill>
        <p:spPr>
          <a:xfrm>
            <a:off x="6324480" y="3352680"/>
            <a:ext cx="260676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62520" y="152280"/>
            <a:ext cx="3962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ip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orhifra1"/>
          <p:cNvPicPr/>
          <p:nvPr/>
        </p:nvPicPr>
        <p:blipFill>
          <a:blip r:embed="rId1"/>
          <a:stretch/>
        </p:blipFill>
        <p:spPr>
          <a:xfrm>
            <a:off x="3733920" y="990720"/>
            <a:ext cx="2003400" cy="244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Rectangle 9"/>
          <p:cNvSpPr/>
          <p:nvPr/>
        </p:nvSpPr>
        <p:spPr>
          <a:xfrm>
            <a:off x="2212200" y="4038480"/>
            <a:ext cx="151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scu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ro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5" descr="http://marshallortho.com/img/hip%20fracture%20diagram.bmp"/>
          <p:cNvPicPr/>
          <p:nvPr/>
        </p:nvPicPr>
        <p:blipFill>
          <a:blip r:embed="rId2"/>
          <a:stretch/>
        </p:blipFill>
        <p:spPr>
          <a:xfrm>
            <a:off x="6019920" y="990720"/>
            <a:ext cx="2743200" cy="248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9" name="Picture 17" descr="Petrochanteric fracture"/>
          <p:cNvPicPr/>
          <p:nvPr/>
        </p:nvPicPr>
        <p:blipFill>
          <a:blip r:embed="rId3"/>
          <a:stretch/>
        </p:blipFill>
        <p:spPr>
          <a:xfrm>
            <a:off x="6629400" y="3809880"/>
            <a:ext cx="2162160" cy="2343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0" name="Picture 19" descr="Sub-capital fracture"/>
          <p:cNvPicPr/>
          <p:nvPr/>
        </p:nvPicPr>
        <p:blipFill>
          <a:blip r:embed="rId4"/>
          <a:stretch/>
        </p:blipFill>
        <p:spPr>
          <a:xfrm>
            <a:off x="3733920" y="3809880"/>
            <a:ext cx="2162160" cy="233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Box 13"/>
          <p:cNvSpPr/>
          <p:nvPr/>
        </p:nvSpPr>
        <p:spPr>
          <a:xfrm>
            <a:off x="5943600" y="4419720"/>
            <a:ext cx="66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ne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14600" y="4571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duce spon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ssociated with tibial plateau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ighly associated with vascular injury - vascular study IM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kneedisloc-ant-s"/>
          <p:cNvPicPr/>
          <p:nvPr/>
        </p:nvPicPr>
        <p:blipFill>
          <a:blip r:embed="rId1"/>
          <a:stretch/>
        </p:blipFill>
        <p:spPr>
          <a:xfrm>
            <a:off x="2819520" y="1905120"/>
            <a:ext cx="1904760" cy="2171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5" name="Picture 6" descr="knee-disloc-post-s"/>
          <p:cNvPicPr/>
          <p:nvPr/>
        </p:nvPicPr>
        <p:blipFill>
          <a:blip r:embed="rId2"/>
          <a:stretch/>
        </p:blipFill>
        <p:spPr>
          <a:xfrm>
            <a:off x="4876920" y="1447920"/>
            <a:ext cx="202248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6" name="Picture 7" descr="knee arteriogram"/>
          <p:cNvPicPr/>
          <p:nvPr/>
        </p:nvPicPr>
        <p:blipFill>
          <a:blip r:embed="rId3"/>
          <a:stretch/>
        </p:blipFill>
        <p:spPr>
          <a:xfrm>
            <a:off x="7010280" y="1447920"/>
            <a:ext cx="190512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Rectangle 8"/>
          <p:cNvSpPr/>
          <p:nvPr/>
        </p:nvSpPr>
        <p:spPr>
          <a:xfrm>
            <a:off x="2973600" y="4038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259240" y="4038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088040" y="40384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og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tellar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44956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verse fracture -&gt; inability to extend leg at the k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s O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fracture_patella"/>
          <p:cNvPicPr/>
          <p:nvPr/>
        </p:nvPicPr>
        <p:blipFill>
          <a:blip r:embed="rId1"/>
          <a:stretch/>
        </p:blipFill>
        <p:spPr>
          <a:xfrm>
            <a:off x="5257800" y="1523880"/>
            <a:ext cx="2381400" cy="28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400" y="457200"/>
            <a:ext cx="54100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isonneuve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52578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aisonneuve fx"/>
          <p:cNvPicPr/>
          <p:nvPr/>
        </p:nvPicPr>
        <p:blipFill>
          <a:blip r:embed="rId1"/>
          <a:stretch/>
        </p:blipFill>
        <p:spPr>
          <a:xfrm>
            <a:off x="3962520" y="1447920"/>
            <a:ext cx="267804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6" name="Picture 6" descr="maissoneuvre"/>
          <p:cNvPicPr/>
          <p:nvPr/>
        </p:nvPicPr>
        <p:blipFill>
          <a:blip r:embed="rId2"/>
          <a:stretch/>
        </p:blipFill>
        <p:spPr>
          <a:xfrm>
            <a:off x="7391520" y="1447920"/>
            <a:ext cx="1218960" cy="365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920" y="837720"/>
            <a:ext cx="3962160" cy="11430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i="1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19720" y="198072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medical 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inju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m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2481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kl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4600" y="46479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leolar fractures and significant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 surgical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ankle_fracture_bimalleolar_dislocation_xray"/>
          <p:cNvPicPr/>
          <p:nvPr/>
        </p:nvPicPr>
        <p:blipFill>
          <a:blip r:embed="rId1"/>
          <a:stretch/>
        </p:blipFill>
        <p:spPr>
          <a:xfrm>
            <a:off x="4648320" y="1447920"/>
            <a:ext cx="2985840" cy="3162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248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sfranc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62520" y="518112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lisfranc"/>
          <p:cNvPicPr/>
          <p:nvPr/>
        </p:nvPicPr>
        <p:blipFill>
          <a:blip r:embed="rId1"/>
          <a:stretch/>
        </p:blipFill>
        <p:spPr>
          <a:xfrm>
            <a:off x="3962520" y="1600200"/>
            <a:ext cx="4930560" cy="343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4267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nes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14440" y="52574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fifth_metatarsal_fractures_gallery"/>
          <p:cNvPicPr/>
          <p:nvPr/>
        </p:nvPicPr>
        <p:blipFill>
          <a:blip r:embed="rId1"/>
          <a:stretch/>
        </p:blipFill>
        <p:spPr>
          <a:xfrm>
            <a:off x="2819520" y="1447920"/>
            <a:ext cx="33526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6" name="Picture 6" descr="Jones Fracture"/>
          <p:cNvPicPr/>
          <p:nvPr/>
        </p:nvPicPr>
        <p:blipFill>
          <a:blip r:embed="rId2"/>
          <a:stretch/>
        </p:blipFill>
        <p:spPr>
          <a:xfrm>
            <a:off x="6248520" y="1447920"/>
            <a:ext cx="268596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47242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ursemaid’s Elbo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00600" y="56386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nurse"/>
          <p:cNvPicPr/>
          <p:nvPr/>
        </p:nvPicPr>
        <p:blipFill>
          <a:blip r:embed="rId1"/>
          <a:stretch/>
        </p:blipFill>
        <p:spPr>
          <a:xfrm>
            <a:off x="3200400" y="1600200"/>
            <a:ext cx="2438280" cy="188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0" name="Picture 6" descr="ncemi nurse reduce"/>
          <p:cNvPicPr/>
          <p:nvPr/>
        </p:nvPicPr>
        <p:blipFill>
          <a:blip r:embed="rId2"/>
          <a:stretch/>
        </p:blipFill>
        <p:spPr>
          <a:xfrm>
            <a:off x="2590920" y="3733920"/>
            <a:ext cx="3047760" cy="1876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1" name="Picture 8" descr="nursemaid"/>
          <p:cNvPicPr/>
          <p:nvPr/>
        </p:nvPicPr>
        <p:blipFill>
          <a:blip r:embed="rId3"/>
          <a:stretch/>
        </p:blipFill>
        <p:spPr>
          <a:xfrm>
            <a:off x="6324480" y="1981080"/>
            <a:ext cx="2536920" cy="34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22764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743200" y="380880"/>
            <a:ext cx="6248520" cy="8384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upracondylar Fractu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6576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supracondylar fx"/>
          <p:cNvPicPr/>
          <p:nvPr/>
        </p:nvPicPr>
        <p:blipFill>
          <a:blip r:embed="rId1"/>
          <a:stretch/>
        </p:blipFill>
        <p:spPr>
          <a:xfrm>
            <a:off x="4267080" y="1600200"/>
            <a:ext cx="4043520" cy="233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6" name="Rectangle 14"/>
          <p:cNvSpPr/>
          <p:nvPr/>
        </p:nvSpPr>
        <p:spPr>
          <a:xfrm>
            <a:off x="345600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2286000" y="4114800"/>
            <a:ext cx="6705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 pediatric fractu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ignificant risk for compartment syndrom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Volkmann’s Contrac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Unreliable parents? ADMIT for observ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Often require surgical interven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95320" y="761760"/>
            <a:ext cx="449604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nitial Treatment of Orthopedic Injuri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81280" y="2590560"/>
            <a:ext cx="5181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Remove jewel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v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ol p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rrigate, dress, reduce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lint, dT, IV antibioti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5680" y="304560"/>
            <a:ext cx="4114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slocation +/-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ime dislocat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ifficult to re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result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f of acute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al of pressure from neurovascular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ation of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t immediately post-reduction to avoid recurrent dis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hysical exam and x-ray to confirm reduction &amp; r/o addt’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3886200" cy="1828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arly Orthopedic Consult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ergent or Urg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76360" y="22860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vascular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to initial injur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ducible disl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ure + dis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avascular necrosis (e.g. scaphoid, femoral ne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9720" y="1828440"/>
            <a:ext cx="4572000" cy="1066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i="1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600" y="2971440"/>
            <a:ext cx="6324480" cy="34290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 (deformity, swelling, ski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lpate (step-off, tender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motion (active &amp; passiv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8098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hysical Exam Document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2520" y="2590560"/>
            <a:ext cx="487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t above - Joint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03848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urovascular Compromis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05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ensory or motor 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question of circulatory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llor or cold distal to inju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capillary refill/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48320" y="761760"/>
            <a:ext cx="396216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artment Syndrom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105520" cy="3733560"/>
          </a:xfrm>
          <a:prstGeom prst="rect">
            <a:avLst/>
          </a:prstGeom>
          <a:solidFill>
            <a:srgbClr val="d2d2d2">
              <a:alpha val="15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ised pressure in a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osed fascial sp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duced capilla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erfusion below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vel needed for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issue viabi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769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mb Compartment Syndrome Caus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14440" y="2133360"/>
            <a:ext cx="4876920" cy="419076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p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ures: open or 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x management (e.g. tight cas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/Iatr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ar puncture: esp. anticoag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-arterial drug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vasation of IV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-tissue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h (e.g. Police K9 bi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ension:  Always worsens perfusion in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9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3848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6" name="Rectangle 1030"/>
          <p:cNvSpPr/>
          <p:nvPr/>
        </p:nvSpPr>
        <p:spPr>
          <a:xfrm>
            <a:off x="3048120" y="3276720"/>
            <a:ext cx="541008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imb contains a number of compartments at risk for C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arm: anterior(biceps-brachialis) and posterior(triceps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earm: volar(flexors) and dorsal(extenso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gluteal, 2 thigh, 4 in the lower leg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7:23:40Z</dcterms:created>
  <dc:creator>Steinhart Rachel</dc:creator>
  <dc:description/>
  <dc:language>en-US</dc:language>
  <cp:lastModifiedBy>HCMARTINEZ</cp:lastModifiedBy>
  <dcterms:modified xsi:type="dcterms:W3CDTF">2010-04-29T11:01:08Z</dcterms:modified>
  <cp:revision>38</cp:revision>
  <dc:subject/>
  <dc:title>Orthopedic Emergencies</dc:title>
</cp:coreProperties>
</file>